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89761"/>
        <c:axId val="19750049"/>
      </c:barChart>
      <c:catAx>
        <c:axId val="22589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50049"/>
        <c:crosses val="autoZero"/>
        <c:auto val="1"/>
        <c:lblAlgn val="ctr"/>
        <c:lblOffset val="100"/>
        <c:noMultiLvlLbl val="0"/>
      </c:catAx>
      <c:valAx>
        <c:axId val="19750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89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D38-2021-47C6-B0A3-DFE2C1B3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630-5BAC-450A-A76E-D4288F95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B92-C7FB-4CCC-AE61-31B28A56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203-B275-47E0-98B7-1DC53958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201-513F-453E-B655-C8668EB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B72-5318-4EB8-80A3-0BBFE0D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99B-0688-489A-A26E-AD940CE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FE9-A46B-4ADA-8729-63E0609E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6CC-AFC9-49D1-9AE4-56012A9A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68E-D6B5-45B3-8A1D-628F99D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14A-92C0-41AE-976E-4AF3559B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3C1-C77B-44C0-8A56-E1814C7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A3A3-410D-4E52-80C2-669920A6F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