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080898"/>
        <c:axId val="6264915"/>
      </c:barChart>
      <c:catAx>
        <c:axId val="950808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64915"/>
        <c:crosses val="autoZero"/>
        <c:auto val="1"/>
        <c:lblAlgn val="ctr"/>
        <c:lblOffset val="100"/>
        <c:noMultiLvlLbl val="0"/>
      </c:catAx>
      <c:valAx>
        <c:axId val="62649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0808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F36B-332A-4D30-9E4B-42C541FD9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2D32-A9F9-4930-A8B3-3F6F9CFF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6605-94BD-4CE3-BAB6-F985DD43B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5E81-F905-46D9-81AB-F5FEB4512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2908-9F79-4EA7-B1AA-EF7D3557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738A-6758-4DF5-8338-4A078E65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4905-BC0F-41DA-950D-14F3DCC2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DA9E-6765-4C82-A0A1-A5B6BF75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550B-A700-4EF0-B243-71205286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8EC7-ABFB-49DC-B390-E129D1DF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98BA-D1EE-42D9-BA06-C7ECDE5E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C1FA-0616-4819-B60D-562A35C7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0784F-F28A-4CC0-92F8-08EFDC986C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