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724086"/>
        <c:axId val="31060659"/>
      </c:barChart>
      <c:catAx>
        <c:axId val="507240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60659"/>
        <c:crosses val="autoZero"/>
        <c:auto val="1"/>
        <c:lblAlgn val="ctr"/>
        <c:lblOffset val="100"/>
        <c:noMultiLvlLbl val="0"/>
      </c:catAx>
      <c:valAx>
        <c:axId val="310606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7240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0CD0-DED4-4899-9CE5-321314955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9FE8-C67C-46A1-A337-44817344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66EC-453A-475A-869A-DAE9FC3B6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3605-660D-4E67-9075-B82B65214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6ED9-FFFC-4F68-9E4F-45BF374C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4B98-39E9-4A88-A6AA-45D9A6F0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707F-01CF-410E-B41C-0AB13219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CB02-2324-4130-A702-3E8D9AD1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EBBB-9A9B-4220-B801-E81C670D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0F7B-47EB-4137-80C8-BE83049C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F45B-2295-429F-8E4C-2F2BFD63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14B9-5848-4150-B77C-1CE5F937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64789-E356-425C-84C2-794CDDC16D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