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53549"/>
        <c:axId val="89378608"/>
      </c:barChart>
      <c:catAx>
        <c:axId val="88653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78608"/>
        <c:crosses val="autoZero"/>
        <c:auto val="1"/>
        <c:lblAlgn val="ctr"/>
        <c:lblOffset val="100"/>
        <c:noMultiLvlLbl val="0"/>
      </c:catAx>
      <c:valAx>
        <c:axId val="89378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53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A46-B258-47D0-A338-6D1D4BA6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FA2-B084-4601-8E13-DDA16CB1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7C0-089E-4E50-9E08-66EE68B4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187-B119-4799-BE6B-F5499FD1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497-75FB-43C1-AB73-C13E676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CB3-83AC-48CD-B354-AD2EF7CF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7B6-0054-4EB1-ADBC-F1CF971D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13A-811C-4B76-B320-15CE4786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9C7-4F04-4F81-B10C-77BE509E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6CD-7198-446E-A15F-A9A1D8DF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1AE-9D2B-4146-9273-87D60C39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7B7-CDD2-4760-AE2E-2ABF8BF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8C57C-8210-4260-86AF-9FFED9CAB5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