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14682"/>
        <c:axId val="81990314"/>
      </c:barChart>
      <c:catAx>
        <c:axId val="85414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90314"/>
        <c:crosses val="autoZero"/>
        <c:auto val="1"/>
        <c:lblAlgn val="ctr"/>
        <c:lblOffset val="100"/>
        <c:noMultiLvlLbl val="0"/>
      </c:catAx>
      <c:valAx>
        <c:axId val="81990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14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B13-78BA-404A-BCDF-6CB515DF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5B5-C190-45A3-9690-B625DF92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325-D4B6-4946-934B-6E41562A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F7F-C758-426C-851E-C6C54AD0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A76-4B14-453E-9B96-9F342109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0B1-2E27-4CA0-8D2E-4AF49265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F64-E023-4952-B2CA-AF9B3AEF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E38-BCCA-404B-B957-AE651858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5C3-8373-4070-8EF3-E524B10F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65F-2589-48AD-9DBE-7280624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A29-CF3B-4AA4-87D3-686ADB9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2A0-4A54-4FBE-9507-DB00F65A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BAB1B-C4AB-4572-8E64-F6938D98B0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