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29374"/>
        <c:axId val="60173985"/>
      </c:barChart>
      <c:catAx>
        <c:axId val="17293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173985"/>
        <c:crosses val="autoZero"/>
        <c:auto val="1"/>
        <c:lblAlgn val="ctr"/>
        <c:lblOffset val="100"/>
        <c:noMultiLvlLbl val="0"/>
      </c:catAx>
      <c:valAx>
        <c:axId val="601739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293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E75D-BD82-49C9-B621-C722200B9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6197-CECA-41FA-8CB4-E165F43B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6685-5922-4A9A-8462-4E5E64577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BC5E-3DDF-4B1E-92DD-630238D23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094C-514F-4EFC-A8F0-FF50C6C6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B484-7906-4FCC-B19D-184FC3EF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B5C7-9649-4B8D-8816-D3677282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5B6A-AF45-4446-A012-92B15E1E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9CC9-E0A6-4B1B-9916-0D4D7A4F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B9C8-F723-48F1-877C-371F14BE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A033-1870-4CFE-BEA4-C9EE2E67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0A7F-6833-4D0B-9C67-94FA7984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05D9C2-1FA9-45CE-8BD0-B5871C8207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