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39746"/>
        <c:axId val="25575011"/>
      </c:barChart>
      <c:catAx>
        <c:axId val="30939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75011"/>
        <c:crosses val="autoZero"/>
        <c:auto val="1"/>
        <c:lblAlgn val="ctr"/>
        <c:lblOffset val="100"/>
        <c:noMultiLvlLbl val="0"/>
      </c:catAx>
      <c:valAx>
        <c:axId val="25575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39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331-8231-49A6-AC52-895016EC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3D6-9F06-48DA-B021-004EEBCC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6E8-BAEA-4236-9A09-93F57C14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918-6437-4F67-85CF-B5C85BD8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A43-B36C-41E7-A096-93C9F4B3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701-109E-4937-AA31-547750BF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3C7-613F-4761-BB9A-FD25823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159-9B4E-4B01-BD53-7DC87413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663-746F-492A-895C-0B1FB6F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0D6-3FE2-480C-8F61-BC73D7E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200-442C-4E82-B33C-289A91D5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2BB-7A18-49C5-AB5B-B161CE13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4B66-50D0-43BB-81BD-D1C60124A8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