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23459"/>
        <c:axId val="27405824"/>
      </c:barChart>
      <c:catAx>
        <c:axId val="69423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5824"/>
        <c:crosses val="autoZero"/>
        <c:auto val="1"/>
        <c:lblAlgn val="ctr"/>
        <c:lblOffset val="100"/>
        <c:noMultiLvlLbl val="0"/>
      </c:catAx>
      <c:valAx>
        <c:axId val="27405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23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4E0-B25D-476D-8F85-DB4DC0D2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A74-0875-4114-9F7F-12940FCB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AFB-D04C-4901-920B-A59B717F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436-CE33-4F32-8778-A731977A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9C8-2A56-4840-B3ED-2769B3D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1D5-35CB-4C7C-9471-BB03AE9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007-0E1A-4163-9EBC-50D2D87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94A-52B2-4727-A048-0FD48BB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AAF-0281-48A3-9EED-B9072A75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033-FA7E-4212-B3BD-15ECC5B1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37E-2FB9-4247-946F-597A51C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668-7F41-424B-810F-A0E1B11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75794-5171-4810-84C7-15CF28051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