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92451"/>
        <c:axId val="62082530"/>
      </c:barChart>
      <c:catAx>
        <c:axId val="27092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82530"/>
        <c:crosses val="autoZero"/>
        <c:auto val="1"/>
        <c:lblAlgn val="ctr"/>
        <c:lblOffset val="100"/>
        <c:noMultiLvlLbl val="0"/>
      </c:catAx>
      <c:valAx>
        <c:axId val="62082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2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B85-F8D7-4D24-9FF8-E9C75BDC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86A-C72C-4EFC-9858-820E373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4F1-B1B4-44C7-A228-EEDFB0E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E38-2ECE-44C5-9C0B-4BD3DF72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8C9-06CF-4026-B292-64068E5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07E-C362-4972-8991-09B1E154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5EA-C368-44B8-88DE-50746E6A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95E-95AC-49FB-9150-17F918B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31-52F7-49BA-9689-A362147A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C68-0342-4B05-A93A-F9C6862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3E3-BEDD-4E1F-AC33-44104FB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487-99D9-4689-9CBC-E62D563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DFCCB-473F-4DD5-810A-F5DEDE1B2A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