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217171"/>
        <c:axId val="80659157"/>
      </c:barChart>
      <c:catAx>
        <c:axId val="322171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59157"/>
        <c:crosses val="autoZero"/>
        <c:auto val="1"/>
        <c:lblAlgn val="ctr"/>
        <c:lblOffset val="100"/>
        <c:noMultiLvlLbl val="0"/>
      </c:catAx>
      <c:valAx>
        <c:axId val="806591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171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031A-8CAE-4437-8DF3-BE489DAC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4DC5-2235-4301-8726-CAC502CA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D1EB-4BFD-4E44-BE30-20371DCE9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C6E0-49B6-444D-86AA-574F3BFF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9FCB-8EFD-4407-B03B-E9918862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8894-3959-4F3A-8724-A00B8C69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826D-313A-4E66-9093-DD4420C4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D9AE-2DBE-4A8C-ACAC-A883B2E5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8AC9-568F-4167-9006-F6331A46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2092-2BD3-45CE-AE0C-41022FF1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9B9E-DF02-420C-813F-92C9F89C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1E3-C6E3-47E1-AD07-FA94746D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D726F-30B1-4CCB-81F2-F7A29F3C5B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