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16368"/>
        <c:axId val="16703949"/>
      </c:barChart>
      <c:catAx>
        <c:axId val="20116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03949"/>
        <c:crosses val="autoZero"/>
        <c:auto val="1"/>
        <c:lblAlgn val="ctr"/>
        <c:lblOffset val="100"/>
        <c:noMultiLvlLbl val="0"/>
      </c:catAx>
      <c:valAx>
        <c:axId val="16703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16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D299-E742-4CBE-9268-F06A4B9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17E-FAF5-495F-A014-4AE8DD1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132-7BA3-4437-AFC4-3E06B7A4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A3F-C7C5-43BC-890C-A00F7E31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DA4-9268-4235-B44F-A5517FE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B12-114A-4CEC-B9CC-99B19548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2BC-3E7F-4B79-A72C-1FB8F17B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51C-F896-475B-BE64-147A517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5BD-CA83-42EA-86D9-3E2D27E8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D4-05BE-46DF-A2D2-28FC197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4EE-B6F6-4885-B27A-0B21A5F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8AC-CFDE-45C5-BB63-D4E7067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D46C-12B9-4EB5-91B0-73229E800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