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935425"/>
        <c:axId val="2256940"/>
      </c:barChart>
      <c:catAx>
        <c:axId val="969354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6940"/>
        <c:crosses val="autoZero"/>
        <c:auto val="1"/>
        <c:lblAlgn val="ctr"/>
        <c:lblOffset val="100"/>
        <c:noMultiLvlLbl val="0"/>
      </c:catAx>
      <c:valAx>
        <c:axId val="22569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354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2C0E-D912-4408-B5C3-1DD5FA7E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FB58-92E9-41A8-925D-0CF3BD6E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59A7-9B6B-4994-9E70-AC0782B9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D71E-313E-45B1-B364-D562D039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89CF-D657-4416-A7F3-E98D2D00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E054-C159-4BA7-92CA-97FC3454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7051-6FC6-45EE-AD83-EB23DD00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0768-CECA-48BE-AFF2-10BEAC93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15FF-284E-44BE-81DC-122267EE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6A8A-8A3A-458E-AC0A-03B4C08A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4945-B93F-4716-8AAB-9209E27E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0F2C-4C44-4197-8EF5-6A93B263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81FCD-6268-4FF7-BB16-0C1246B64A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