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94538"/>
        <c:axId val="91309543"/>
      </c:barChart>
      <c:catAx>
        <c:axId val="72094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09543"/>
        <c:crosses val="autoZero"/>
        <c:auto val="1"/>
        <c:lblAlgn val="ctr"/>
        <c:lblOffset val="100"/>
        <c:noMultiLvlLbl val="0"/>
      </c:catAx>
      <c:valAx>
        <c:axId val="91309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94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0CF-371A-417B-BA20-1B8D0BF2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656-C7B6-4755-B44A-B12E9CED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742-71A3-4A5B-9CE8-A9520E18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82F-0F85-44B9-A379-E4928666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607-F569-4F5E-BE4C-4C073D47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C89-4491-4F3A-A6BA-F999AA73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915-103F-4080-8D02-CC5EC50F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D3E-FE09-4C0A-87F9-5B4EE6F3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B00-A8C1-444B-A2C6-F48CE46B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C4F-8306-4092-95CB-13FB1926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2B7-CC80-4A3F-A41E-F6FC49DF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948-871C-49A0-89D2-AD1DC7D0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44AB8-E66E-42C5-B0AE-FCAAB0E878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