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6789"/>
        <c:axId val="69171942"/>
      </c:barChart>
      <c:catAx>
        <c:axId val="7786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71942"/>
        <c:crosses val="autoZero"/>
        <c:auto val="1"/>
        <c:lblAlgn val="ctr"/>
        <c:lblOffset val="100"/>
        <c:noMultiLvlLbl val="0"/>
      </c:catAx>
      <c:valAx>
        <c:axId val="69171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6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029-4950-489A-941B-E7E5DC69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110-0F91-4182-A4F8-CDE8AE53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3E2-C7FA-45CB-8340-45A40CF4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B55-CE74-4D5C-A347-82EB16F0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2630-A799-4479-A3D0-24A8CE14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9F2-740D-4D81-97EC-DC7BE509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070-4281-4B35-BF80-F048076D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949-59DA-473D-84F1-94FDA183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001B-332C-444B-B7E8-B519C3C4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EB8-EE82-4381-A38F-9CBE4D4C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6BB6-EB08-4A64-BD11-00695F50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2E1-96C2-4814-B120-7B85470C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C8BE9-BDF3-4450-8FFD-D279906649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