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622612"/>
        <c:axId val="33385494"/>
      </c:barChart>
      <c:catAx>
        <c:axId val="316226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385494"/>
        <c:crosses val="autoZero"/>
        <c:auto val="1"/>
        <c:lblAlgn val="ctr"/>
        <c:lblOffset val="100"/>
        <c:noMultiLvlLbl val="0"/>
      </c:catAx>
      <c:valAx>
        <c:axId val="333854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6226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B103-209F-4778-A2C6-4717FFF87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5AA5-14F4-4241-8A8E-08F5B615C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B68C-3FCD-4549-977E-3DE9DD2F8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CB0E-2211-4369-B8F3-E2565306F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B761-9099-4D35-B3AB-A493FC2F3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2C14-B244-42E0-8DAE-6C60F52D3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51F4-8E71-4F4B-A8E1-A4753AF6F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10F6-AEF0-431D-9CCE-67FB62F6D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5125-B29B-4BC1-8D6E-C2F3582BB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CEA8-71BA-466C-8C7A-2784C8F7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5C07-99FF-4D34-81B6-89FD18BB0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D262-0A91-4BA0-A9D4-AABEF379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DC211E-1484-4DE4-866E-3779299E631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