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252254"/>
        <c:axId val="62242913"/>
      </c:barChart>
      <c:catAx>
        <c:axId val="152522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42913"/>
        <c:crosses val="autoZero"/>
        <c:auto val="1"/>
        <c:lblAlgn val="ctr"/>
        <c:lblOffset val="100"/>
        <c:noMultiLvlLbl val="0"/>
      </c:catAx>
      <c:valAx>
        <c:axId val="622429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522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F5ED-4005-4AE8-B47D-BB2F8959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98A3-DC98-4618-8520-B5D4ADB8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7DD8-8B4E-41B9-A11A-5F2B139D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3CAA-AB80-44F6-872B-E26C3C6C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BA8E-E9EC-40D7-89B6-4231A04A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FEF7-6540-4E3B-9D61-C2180221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9A9D-D861-4BB2-98E7-AAB6AA19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799B-54B3-488D-A755-80DC8EB4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9AF1-9D05-4592-804B-2FE9469D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0DBA-1892-400A-B12E-EB7E7AD0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9F8A-98B1-4AC6-9DEF-ADB7B2EF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CF98-95C7-43F3-8A9B-1CDDE0D3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8AEBE-628F-4C60-94D7-CF69A12AE0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