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493257"/>
        <c:axId val="82015742"/>
      </c:barChart>
      <c:catAx>
        <c:axId val="684932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15742"/>
        <c:crosses val="autoZero"/>
        <c:auto val="1"/>
        <c:lblAlgn val="ctr"/>
        <c:lblOffset val="100"/>
        <c:noMultiLvlLbl val="0"/>
      </c:catAx>
      <c:valAx>
        <c:axId val="820157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932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D0A3-5F0E-4787-A53E-7F1266469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F5A2-746C-4CCB-B253-B585D189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C5BE-2745-4233-887E-BC8AD37A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5FE0-43B1-40CC-B644-992F1102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FA0C-F342-4BC2-BA9B-27155144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E29A-E7BC-4857-B5B7-A6C85B98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3606-AA59-4CA9-B63C-0516F8F5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A911-EA5C-4C67-A2A3-9B454D6E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79C3-F239-4033-AB7C-BCDF0BC7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526C-4819-4BE5-88DE-F8191F5D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10EA-8FF1-4E4C-B23E-84A778CE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5938-75C2-4DFE-8389-22BD75BD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993A5-4D9B-4BA3-B3CE-40449DB40E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