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74268"/>
        <c:axId val="9337558"/>
      </c:barChart>
      <c:catAx>
        <c:axId val="211742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7558"/>
        <c:crosses val="autoZero"/>
        <c:auto val="1"/>
        <c:lblAlgn val="ctr"/>
        <c:lblOffset val="100"/>
        <c:noMultiLvlLbl val="0"/>
      </c:catAx>
      <c:valAx>
        <c:axId val="9337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742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8E7-3047-4C10-8B1C-C2E533C5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C47-2735-45ED-B6F5-864046C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451-B24F-4DBB-BF3A-9657A1FF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762-C8CE-4B54-A817-77C913B5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2AD-2139-43AC-9DB5-51CBBB4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476-858D-4A85-8602-FBDEB608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E49-03AC-4968-AF51-540BBCF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0D2-F185-4AD8-89B4-D66074AA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B87-486C-4117-9B6B-901C865E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E46-C876-49D6-A27A-FFE7657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CC5-7D7D-4CB4-9BFC-CF11FFD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FC8-9867-49A8-B005-E5BA0E7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E30FD-179A-4487-A26D-42C6DA7C6C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