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44468"/>
        <c:axId val="45863773"/>
      </c:barChart>
      <c:catAx>
        <c:axId val="11544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63773"/>
        <c:crosses val="autoZero"/>
        <c:auto val="1"/>
        <c:lblAlgn val="ctr"/>
        <c:lblOffset val="100"/>
        <c:noMultiLvlLbl val="0"/>
      </c:catAx>
      <c:valAx>
        <c:axId val="45863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44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63C-B1D8-4B13-AE41-F9724578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871-7B78-468B-B271-EF006C6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0D6-77D5-4592-BD88-600F0C9D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FB2-5093-4E52-958D-F24E9605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557-3E96-4701-A3BF-862896A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E68-56E3-4702-B18A-315BEA40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181-72FB-41AA-88AA-F54E3B9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387-72F4-4095-BDDD-39173793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2D4-1BEC-4AA6-AAEA-AFCFD1D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F0A-ADBE-466F-BD07-1CD1901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7D5-B0A7-4F39-A116-BDCE6C0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B07-01D8-4E69-A3B8-30D46E9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CD2DB-1D83-4B85-9426-10C6A15A9D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