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635380"/>
        <c:axId val="64477147"/>
      </c:barChart>
      <c:catAx>
        <c:axId val="236353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477147"/>
        <c:crosses val="autoZero"/>
        <c:auto val="1"/>
        <c:lblAlgn val="ctr"/>
        <c:lblOffset val="100"/>
        <c:noMultiLvlLbl val="0"/>
      </c:catAx>
      <c:valAx>
        <c:axId val="6447714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6353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8DF2-9EFD-4D9F-A85F-BFE7273337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E332D-2C5A-4557-8D3C-4F6498A25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7E4C-13FC-4802-9CB4-10AD930B6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67DB2-8AA8-4C8D-8D41-F7C1AC0D2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E388-646E-4132-B210-FADCF4316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E97EB-0CC7-4134-A02F-635EB0AAF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F603F-1FB3-45B1-BECD-9DF507412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65DDE-2536-414D-A35C-082B8656C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5D3A6-CDBB-4949-8EB5-E9713DC47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302C4-13A3-4489-8026-FD2B8F622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2E5FF-61A6-46E3-83CF-48BC65151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C344-BA07-4EAA-83B4-D2A3AAF6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888318C-3F52-4EE9-BD8C-186DE481640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