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89675"/>
        <c:axId val="57116260"/>
      </c:barChart>
      <c:catAx>
        <c:axId val="50689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16260"/>
        <c:crosses val="autoZero"/>
        <c:auto val="1"/>
        <c:lblAlgn val="ctr"/>
        <c:lblOffset val="100"/>
        <c:noMultiLvlLbl val="0"/>
      </c:catAx>
      <c:valAx>
        <c:axId val="57116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89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863-8978-462C-9B5E-1E522F7D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17A-5C2A-4368-A664-2616BF69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330-3836-457C-BB82-4E7C7AF1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3D7-B63F-432E-A30B-8938D666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FE5-BC2C-4BCE-B453-F4AA59A2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C35-26DF-483C-B54B-6E112786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B0C0-5126-405E-94EF-450C54C8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8D8-790C-47F8-A1E0-039493E8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3EC-E847-40EA-9E58-8C7CDCF9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299-A138-4128-BF9B-CBA97A7C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F51-B1CF-4818-8811-121DC83B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53B-4B71-4F05-B88D-EA8B3D50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A8FC0-F8F4-42CA-8049-6191C090FA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