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77983"/>
        <c:axId val="71824853"/>
      </c:barChart>
      <c:catAx>
        <c:axId val="33377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24853"/>
        <c:crosses val="autoZero"/>
        <c:auto val="1"/>
        <c:lblAlgn val="ctr"/>
        <c:lblOffset val="100"/>
        <c:noMultiLvlLbl val="0"/>
      </c:catAx>
      <c:valAx>
        <c:axId val="71824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77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324-7C7A-42FD-AF16-986823DB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0C2-9727-4601-9CA4-D950AEBB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228-5537-47BA-85C0-A76BD505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CE4-C6B6-40B4-8C9E-B0E42729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B6D-CBFB-43C7-A550-4B9F684E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838-053A-4D63-B1CB-47CA2263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365-8F03-4AF8-8FBE-B1A4CC5E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E35-E94C-43FF-B21B-94185CE2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27F-8A59-4128-B555-3F1774F5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AD7-554E-490B-9C4F-B96FB54A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43E-63A0-4A9E-870A-05AB589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A45-C34F-48C4-B25D-96D68550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22E61-BAC6-41CC-817F-2383B58F24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