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59790"/>
        <c:axId val="99889208"/>
      </c:barChart>
      <c:catAx>
        <c:axId val="67659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9208"/>
        <c:crosses val="autoZero"/>
        <c:auto val="1"/>
        <c:lblAlgn val="ctr"/>
        <c:lblOffset val="100"/>
        <c:noMultiLvlLbl val="0"/>
      </c:catAx>
      <c:valAx>
        <c:axId val="99889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9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6B3-7233-48E9-86FC-09F256A7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D4E-0109-472A-AB71-0C0ACAE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678-191E-4D63-BE0B-B2E73DCE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97E-AE2C-4A69-AA1C-A5C670FB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560-0105-48C7-9868-D56CB52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CA4-4A52-403C-841E-4387F3BD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359-5A7B-49B3-9448-3920388F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088-CB44-487D-B0F2-713A82BC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397-484E-40E3-B81C-6D6DD3E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B5E-3578-44B7-A1CA-D2DAC31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3AA-2884-455F-A645-35EEAB4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F6F-ABF3-4B03-BB89-A5604AB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0F7C7-1959-48D6-83F1-6C0FC08696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