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710449"/>
        <c:axId val="5408874"/>
      </c:barChart>
      <c:catAx>
        <c:axId val="927104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08874"/>
        <c:crosses val="autoZero"/>
        <c:auto val="1"/>
        <c:lblAlgn val="ctr"/>
        <c:lblOffset val="100"/>
        <c:noMultiLvlLbl val="0"/>
      </c:catAx>
      <c:valAx>
        <c:axId val="54088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7104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E816-F89B-4FA4-B0C7-D564C9D5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B1C3-E92A-429F-903A-EDDDD79F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1C0D-94EB-4287-96E9-C25E0713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6FFE-C564-47A9-BCFF-03562DDB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736F-BE27-401F-8696-C24FB537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AEF-AD70-492D-B004-91A6CA940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515F-15F6-48B8-8028-6F3FA3A79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F78A-D1AA-4DCD-B805-72202BE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C2CD-8D3E-46A3-B5E5-1C6BE747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C431-E2EB-4185-9039-4DD7706C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111A-E3B4-4699-863D-9F8E9078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3478-9B6E-472E-A143-AF777AED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F76CBE-CAAB-4100-9C3D-B9F13ABF93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