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0953134"/>
        <c:axId val="73806195"/>
      </c:barChart>
      <c:catAx>
        <c:axId val="6095313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3806195"/>
        <c:crosses val="autoZero"/>
        <c:auto val="1"/>
        <c:lblAlgn val="ctr"/>
        <c:lblOffset val="100"/>
        <c:noMultiLvlLbl val="0"/>
      </c:catAx>
      <c:valAx>
        <c:axId val="738061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95313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75F6D-2C25-431C-B9CB-3115FC1E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DC04B-B512-46B1-9C0A-9ED6B3E1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493BF-D5E6-487A-BC5A-C1C2309017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0D990-B738-43A5-A08D-ABCF3A8EAB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C7D69-0920-414A-A300-FF055D4C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17FBB-FB35-4D76-8038-3E97DE4A5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E7E6-1DBF-42F9-BC35-915868CF0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0B38B-3F1E-42C0-BEF7-B8731D758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D4E68-47FA-41F1-966C-A83F58539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7FC5D-A902-49EC-B353-A7572698B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9D6C-F985-486E-BAD9-CF2E95EE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EB4DD-E58C-48ED-96E2-F8EB6CE9C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C66BD0-5BEF-41F9-8D55-1BBF75FCB98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