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29574"/>
        <c:axId val="58336540"/>
      </c:barChart>
      <c:catAx>
        <c:axId val="81295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336540"/>
        <c:crosses val="autoZero"/>
        <c:auto val="1"/>
        <c:lblAlgn val="ctr"/>
        <c:lblOffset val="100"/>
        <c:noMultiLvlLbl val="0"/>
      </c:catAx>
      <c:valAx>
        <c:axId val="583365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295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5740-601D-4EF5-96DF-094611FBE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1BD1-5A25-42C6-86E1-DC9267C37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ED50-2CDA-459F-B7A5-C065C3A3D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660A-4171-4A3D-8F23-0242F52E3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D8D6-5B9E-4C3A-93AE-EFC3D41FB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1372-6199-42DC-A1F2-E1D72BC53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EB2F-C8ED-4AFA-AF75-BA2DCDB72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9016-30A0-48FB-889D-BA124528F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ABDA-DDD8-47DC-BC72-0DF018DF8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197A-C04C-4171-9E39-DEC1F4C52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7D0A-E868-4088-A5D3-4FA4257CD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07A4-FE9F-49FC-981F-9FC2D2398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307C52-8867-4643-8628-660051C4885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