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98933"/>
        <c:axId val="89337213"/>
      </c:barChart>
      <c:catAx>
        <c:axId val="21698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37213"/>
        <c:crosses val="autoZero"/>
        <c:auto val="1"/>
        <c:lblAlgn val="ctr"/>
        <c:lblOffset val="100"/>
        <c:noMultiLvlLbl val="0"/>
      </c:catAx>
      <c:valAx>
        <c:axId val="893372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98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223-4543-4261-B48B-F7E06DAC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148-8FCE-4F72-8859-CF7BC9AE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EF6-0FA0-4652-A099-D33EFCC2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262-B81E-4776-8A04-5CDDFC51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D9C-E7B0-4B5C-B9CC-152D946A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A75-230A-4796-8BEC-5B26C409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4FC0-5CCB-4355-8BFF-C1421293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FF4A-89D5-499F-842D-AEF36B25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6C9-F025-4F9D-ADB9-059F712A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233-EAE1-44C4-BF8A-C8B2787B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24C-A164-4C8F-AF25-9C405D08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1BD5-4045-429D-862A-DBEF80D7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6DFF7-A0FB-4F1A-8891-CAFDF68044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