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48930"/>
        <c:axId val="44997272"/>
      </c:barChart>
      <c:catAx>
        <c:axId val="99748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97272"/>
        <c:crosses val="autoZero"/>
        <c:auto val="1"/>
        <c:lblAlgn val="ctr"/>
        <c:lblOffset val="100"/>
        <c:noMultiLvlLbl val="0"/>
      </c:catAx>
      <c:valAx>
        <c:axId val="44997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48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700-503C-4313-A5D7-26474673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E5C-8A4C-45E8-9867-12FF9F92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B1F-6192-4C00-B090-2022CDB1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EAD-A20E-4368-918B-95ED8CEE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DF7-8DAF-49DB-B725-144F004E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F6E-C5FB-435F-A079-4787BCC2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569-0C81-4ECC-9342-D112F28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F37-06F2-415E-A1E8-91A74BBF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CB2-75BA-4AD6-9768-86E062D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C71-E838-4F3B-829F-63DA17A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EF8-1AE3-4EC3-967C-C32A6E5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610-A672-4DFC-9938-C46FDE0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153FB-5A1B-4252-B72C-E49D5FA0E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