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444283"/>
        <c:axId val="4674285"/>
      </c:barChart>
      <c:catAx>
        <c:axId val="45444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4285"/>
        <c:crosses val="autoZero"/>
        <c:auto val="1"/>
        <c:lblAlgn val="ctr"/>
        <c:lblOffset val="100"/>
        <c:noMultiLvlLbl val="0"/>
      </c:catAx>
      <c:valAx>
        <c:axId val="46742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44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A7B-920B-4ED0-86C9-A63AA4F5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029B-00F9-481C-9BDE-5D1FFD06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B92-AE04-4564-9B23-456C5504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FE1-42A3-44F5-B2EF-D1CFDB6B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3556-19F7-4621-A4FC-879FCCAD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08B8-74B8-4D1C-BD3D-FE6E6E40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DE6-4513-445B-AC8B-B2D8A12A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A9B-4803-44E6-9CC7-3805F986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32C3-BD7C-41B7-998A-78B9FBF6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2CC-BA62-4144-A65F-A47A6D1F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7E0-3A37-4DF0-965C-8CA69EA3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3FC-4381-4C35-BEE9-A354F96B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E8F5D-6F21-463B-82B9-EEC3E88734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