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010857"/>
        <c:axId val="74188493"/>
      </c:barChart>
      <c:catAx>
        <c:axId val="910108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88493"/>
        <c:crosses val="autoZero"/>
        <c:auto val="1"/>
        <c:lblAlgn val="ctr"/>
        <c:lblOffset val="100"/>
        <c:noMultiLvlLbl val="0"/>
      </c:catAx>
      <c:valAx>
        <c:axId val="741884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108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6849-0FCA-4EAC-A3FB-10CBD11D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D046-A4D9-4A86-A0A6-D5E3B150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6713-A601-417C-9625-95851C39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DB4-9003-4216-B944-D1B1DB82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3F3B-1E0C-4BED-A69E-80993101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CA94-7CDE-45B8-8D7A-DD4B7D14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0DFD-451C-4B55-9501-1F9CF195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34FC-5555-4DD9-8C29-776A7F06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9726-1D2C-43CD-A1FE-5CB62A8B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349F-DF90-4DAB-8831-5D350CB0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B082-6D8E-4EC4-942B-8F7FBF1A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810-0B34-4D47-B60D-D63DC580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FAEA8-25F0-4545-9F80-3CD7B85925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