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1895562"/>
        <c:axId val="49704410"/>
      </c:barChart>
      <c:catAx>
        <c:axId val="9189556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704410"/>
        <c:crosses val="autoZero"/>
        <c:auto val="1"/>
        <c:lblAlgn val="ctr"/>
        <c:lblOffset val="100"/>
        <c:noMultiLvlLbl val="0"/>
      </c:catAx>
      <c:valAx>
        <c:axId val="4970441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89556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C31A5-0F76-43C1-A8FF-F710C3B5A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CD567-046E-4FDA-B515-085F1432D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6155C-1CEA-4A25-86F2-527E60A14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EBBB0-CF63-47FE-B2D6-B6A738A94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0453D-6282-4C28-A5A8-EB86957A6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E73CD-8244-4DE6-9372-5E6DDE718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885A7-A87F-48BA-94B8-C59EC3770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9FC90-0AED-412B-9495-1339E5746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24BFA-C4DE-4951-896C-4EAC1F425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79648-FC09-4F85-A7DB-5700082C3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5D1F6-0EC1-4AE8-8C6A-23B8E34A7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0E0E6-0B48-4CA8-B164-FCDFDE622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E94708-C703-4D87-8927-BE814580D7C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