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91063"/>
        <c:axId val="34544618"/>
      </c:barChart>
      <c:catAx>
        <c:axId val="59791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44618"/>
        <c:crosses val="autoZero"/>
        <c:auto val="1"/>
        <c:lblAlgn val="ctr"/>
        <c:lblOffset val="100"/>
        <c:noMultiLvlLbl val="0"/>
      </c:catAx>
      <c:valAx>
        <c:axId val="34544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91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84E-94D3-40A2-A8B0-38710D6C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2F4-0535-45F5-A736-1697E3C7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86A-21A5-4988-A52E-D13387BD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BF3-8B22-4FEB-876A-2E39FAF9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313-E331-4862-8A33-669CD630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4CC-C367-41DB-A896-471925C8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89D-6EB2-4C3B-9A9A-A7B5ABDC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B14-2989-4E12-9211-4F4E9AC4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C16-DF92-4EEC-A8E9-319567F3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F6B-ECF1-4381-911E-1D74939D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FB5-8230-4CA4-858D-FF86D746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82E-678D-40AC-B546-43B4E09A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7177C-096A-431E-9DFC-EB71DDF346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