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46975"/>
        <c:axId val="8826868"/>
      </c:barChart>
      <c:catAx>
        <c:axId val="82946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6868"/>
        <c:crosses val="autoZero"/>
        <c:auto val="1"/>
        <c:lblAlgn val="ctr"/>
        <c:lblOffset val="100"/>
        <c:noMultiLvlLbl val="0"/>
      </c:catAx>
      <c:valAx>
        <c:axId val="8826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46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2CA-D927-4A8C-8D97-8A53EFB9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B33-90DA-4213-BA66-9C7F1750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3B3-DB6E-430D-BA8C-70F45A71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27AF-11C3-4C25-A260-5D7E863E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267-6214-411F-BA5C-BBA6801B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69F-F2CC-46F2-BAA0-59321A29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74F-E790-40FC-937C-F21679CE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DDA-0C6A-4A0F-84FD-E7346DA2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117-2133-451E-9D13-17768418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187-61F8-453C-9F86-9C2AE6C6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7E1-E7BC-4E12-AF0F-5D7353C5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DF8-37C6-419F-9487-102C869D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7FA7F-C025-4C16-8E24-6C10850FC9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