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47231"/>
        <c:axId val="37950736"/>
      </c:barChart>
      <c:catAx>
        <c:axId val="69747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50736"/>
        <c:crosses val="autoZero"/>
        <c:auto val="1"/>
        <c:lblAlgn val="ctr"/>
        <c:lblOffset val="100"/>
        <c:noMultiLvlLbl val="0"/>
      </c:catAx>
      <c:valAx>
        <c:axId val="37950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7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6AB-39D5-44DA-BB64-48CEDD55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921-3E04-4B21-B638-B75AFD16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CA7-B458-40C9-9FC0-FA2A8B85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5A9-FBF0-409E-B261-ADA6401B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B1A-15D8-455F-9FBA-A22D0907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CCF-50A6-458B-A56D-866147C5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599-4B14-43DC-9CEF-B79ADAF4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D13-2129-4997-B40B-CBA0E3DE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9F4-692B-405F-BABA-3B6469B3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8C4-6F19-4D71-B8B9-9EE69A7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FC7-0716-4FD1-ABFB-AF506DF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406-D0B4-46DB-9EF6-ABEB8528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E0DC1-D1C4-4DDA-AFD0-4648401DDC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