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74328"/>
        <c:axId val="79113587"/>
      </c:barChart>
      <c:catAx>
        <c:axId val="79574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3587"/>
        <c:crosses val="autoZero"/>
        <c:auto val="1"/>
        <c:lblAlgn val="ctr"/>
        <c:lblOffset val="100"/>
        <c:noMultiLvlLbl val="0"/>
      </c:catAx>
      <c:valAx>
        <c:axId val="79113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74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8F2-3DC5-4A19-9BC3-6B4C58B0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806-D233-46D3-8621-E41CCDB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19F-7819-4C74-94DF-CB11D696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831-122B-49DC-8B24-CBF5B314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9BD-F60F-4475-80CF-B364EA3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117-C15D-435B-B389-9B3B008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71C-B63C-415D-92FD-F4DDDA4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B84-37CC-45FE-9ABA-5110ED0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0DB-C7DF-429B-95F5-CF4029A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B11-0E0E-4F08-853F-8A6D198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E8D-ED7B-42ED-8F0F-9794830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489-389B-439C-9D5A-BD391FB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F689F-9127-48E3-A42D-09B7677799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