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9239"/>
        <c:axId val="66073746"/>
      </c:barChart>
      <c:catAx>
        <c:axId val="17639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3746"/>
        <c:crosses val="autoZero"/>
        <c:auto val="1"/>
        <c:lblAlgn val="ctr"/>
        <c:lblOffset val="100"/>
        <c:noMultiLvlLbl val="0"/>
      </c:catAx>
      <c:valAx>
        <c:axId val="66073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9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42E-F391-42E1-9D40-CF465FF9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97A-A5EC-4115-A040-0BD750B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9C8-4DCE-45C5-B872-43AAC6F1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87B-2AC1-4AB3-AFEE-D5D4455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102-FBDE-4178-AB74-FFC8B04A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D6F-2055-4C48-8651-8C19703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9F0-F32B-488D-BE99-D68397C6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502-FC30-4085-AA8E-22CDF17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845-7229-43BF-95C4-835907C7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A68-EAC7-47B7-8A8A-7E931F7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471-214B-410D-9C11-52F36C5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3D5-33CC-424C-8D87-A6A575A0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2D9CC-07CE-4D86-89F5-B4082B5F0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