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6020"/>
        <c:axId val="16753525"/>
      </c:barChart>
      <c:catAx>
        <c:axId val="1146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3525"/>
        <c:crosses val="autoZero"/>
        <c:auto val="1"/>
        <c:lblAlgn val="ctr"/>
        <c:lblOffset val="100"/>
        <c:noMultiLvlLbl val="0"/>
      </c:catAx>
      <c:valAx>
        <c:axId val="16753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6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115-2058-4D99-9716-9873D48B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157-6E39-4EE7-82AB-FABDE29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E1D-9A14-48D2-BD2A-4B712741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124-45CF-453F-BDCB-52C3FF86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A07-8BD1-462D-BF7D-2BAB581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165-5324-43DD-A179-61B74C88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2F8-BB52-4952-91AF-2DA6794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9A0-FD98-443C-A612-4BC90BA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698-70D6-4BB9-B275-0232E0B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EF5-6807-45F5-A490-76AC37A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EC4-EFEC-4164-8448-E46AA93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924-1FD2-462A-A5EF-0CBB400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8BA9-E340-4F84-B8D7-9F374184B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