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98989"/>
        <c:axId val="79383605"/>
      </c:barChart>
      <c:catAx>
        <c:axId val="895989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83605"/>
        <c:crosses val="autoZero"/>
        <c:auto val="1"/>
        <c:lblAlgn val="ctr"/>
        <c:lblOffset val="100"/>
        <c:noMultiLvlLbl val="0"/>
      </c:catAx>
      <c:valAx>
        <c:axId val="79383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989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BAB-8D23-4840-A51D-3CD2252D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F19-2AA7-41EE-AA29-23649B6D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7F75-F202-4624-89E7-3D8F9CED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7F2-DD87-4A49-A7ED-4072AB1D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210-A49C-4598-8929-41D51200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3ECF-D513-45BA-9345-3DF36E8E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9E0A-87CE-4956-BE3E-7A99DF35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801A-AFAB-4869-B093-3F6922C3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86B9-2871-4323-AFCA-FE897E93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D259-D60B-46A6-BE31-7D3EC1B9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B6E-9823-4FA7-A921-89201086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F7F-DDC6-438F-838F-DFF84F9F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2FE42-2E74-4508-9CFF-FEF76C4EAD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