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23639"/>
        <c:axId val="94234115"/>
      </c:barChart>
      <c:catAx>
        <c:axId val="71123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34115"/>
        <c:crosses val="autoZero"/>
        <c:auto val="1"/>
        <c:lblAlgn val="ctr"/>
        <c:lblOffset val="100"/>
        <c:noMultiLvlLbl val="0"/>
      </c:catAx>
      <c:valAx>
        <c:axId val="94234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23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8D7-9769-4AE2-B50D-13F950B0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40F-8F7C-4CBB-99F7-604B43C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AF7-FAC9-4468-99A9-BB3430C8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B36-B3AE-4C34-B635-11910416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A2D-CCE8-46D8-9728-02B2952B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DCD-09FE-40AE-BB34-425CC6C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58F-456F-4234-822E-56DEAA7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1AC-6C56-4209-8550-CB3EF80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E2E-BE09-4FC7-BBAF-1F5E336F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834-2016-4512-BC9F-7D614E2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A71-6156-4756-8530-0547643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17C-6C41-4539-8358-1F283C9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72562-359F-4AFA-9A24-6C0F1AE65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