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09107"/>
        <c:axId val="14077593"/>
      </c:barChart>
      <c:catAx>
        <c:axId val="52209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7593"/>
        <c:crosses val="autoZero"/>
        <c:auto val="1"/>
        <c:lblAlgn val="ctr"/>
        <c:lblOffset val="100"/>
        <c:noMultiLvlLbl val="0"/>
      </c:catAx>
      <c:valAx>
        <c:axId val="14077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09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7A-D042-42A9-886E-F456E71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D8B-9999-4822-ADE0-1EEE81D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343-1564-402D-9767-8E5833FA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CB4-0D25-46AA-929B-E2D80C1D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07E-CE15-4E5C-976F-C0D97939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B4F-1DCD-447E-9D2B-D9E97AB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34F-49D1-4CA8-AC04-24C2139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9C6-C458-4504-B6DF-5DADD9B4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B2A-FE24-4B83-A785-5EC75B46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A15-5435-412B-8653-18E284D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97B-142C-4016-BC0D-1790241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ECA-AE9A-4054-8E95-90B1B53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94F02-4F2F-41DC-8C35-3CC40F916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