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50333"/>
        <c:axId val="97224326"/>
      </c:barChart>
      <c:catAx>
        <c:axId val="45950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24326"/>
        <c:crosses val="autoZero"/>
        <c:auto val="1"/>
        <c:lblAlgn val="ctr"/>
        <c:lblOffset val="100"/>
        <c:noMultiLvlLbl val="0"/>
      </c:catAx>
      <c:valAx>
        <c:axId val="97224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50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D43-843E-4FBB-9733-A1E126E7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B0A-2B18-4BE0-B333-DCD9F4B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DDF-5A26-466E-AE4D-A4D5F7AF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2B3-E909-4D91-A240-55B94F9C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33E-2A3A-4CD6-88A2-9971A58E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103-6065-4F82-ABBE-2FDED57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578-956F-4277-B2D1-5D32308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7EE-69DA-45A2-A25A-793BE2A4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FCC-2ED7-4757-ABF4-B41CD73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70A-0BBD-4EE8-9FF7-604F20F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910-4CBF-4920-8F53-EDC7998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86E-B3F4-4CAE-8D1E-C6E6006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845FE-81E5-4107-9405-081AAFDA32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