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436910"/>
        <c:axId val="14255668"/>
      </c:barChart>
      <c:catAx>
        <c:axId val="184369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255668"/>
        <c:crosses val="autoZero"/>
        <c:auto val="1"/>
        <c:lblAlgn val="ctr"/>
        <c:lblOffset val="100"/>
        <c:noMultiLvlLbl val="0"/>
      </c:catAx>
      <c:valAx>
        <c:axId val="142556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4369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D592-192A-4A2F-90E4-9A9FE06BC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F0B5-D236-4B58-84CF-70EA110DA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6D88-25BE-4391-B657-6C203A5A2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50AC-5DBD-4AA9-970E-440E3E73E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5351-51A2-47F2-AEC6-C12E9356A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A6E5-AAC2-4D5A-91D8-3F1E81446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F26B-75DC-4A8B-BC98-7B2DF2B09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7608-71C0-4D7D-9B5F-B506CBFAF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74CF-CC5F-4B56-A93C-95D37814F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7F84-316A-43A7-9FD9-593FB0E6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E2FC-192D-41AA-8862-9ADF0E46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692C-5D81-4CA9-B9C0-22CFFE82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8CEC85-C61E-4AE2-87C3-776CE5BAF76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