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10202"/>
        <c:axId val="44724040"/>
      </c:barChart>
      <c:catAx>
        <c:axId val="80410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4040"/>
        <c:crosses val="autoZero"/>
        <c:auto val="1"/>
        <c:lblAlgn val="ctr"/>
        <c:lblOffset val="100"/>
        <c:noMultiLvlLbl val="0"/>
      </c:catAx>
      <c:valAx>
        <c:axId val="44724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10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723-34D8-4399-BEB3-01DD489E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807-C475-45C4-AB9C-7F8DD8DE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083-1F92-429B-ADAA-F7665695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8BD-B433-4751-8555-C7A8EC88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CF5-CEC4-4E96-8B61-66A98F5D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ACC-EB2A-42E6-A539-D9CCF8EA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510-D41A-43C9-B042-80B88CF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CFE-1415-4ED5-BA0D-C91BA47F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929-F5C7-4B56-9F21-80FC2E88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8E9-B595-4D08-8E46-182F35A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B1B-65B5-4D9C-A373-254864F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538-985E-4A70-896F-6F8F5AF4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F75FF-80D4-4CE3-88BB-E34CB8363A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