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87353"/>
        <c:axId val="76378139"/>
      </c:barChart>
      <c:catAx>
        <c:axId val="62187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78139"/>
        <c:crosses val="autoZero"/>
        <c:auto val="1"/>
        <c:lblAlgn val="ctr"/>
        <c:lblOffset val="100"/>
        <c:noMultiLvlLbl val="0"/>
      </c:catAx>
      <c:valAx>
        <c:axId val="76378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7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EA5-7FCE-4DF6-9FAC-1A0A8CE3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21B-556F-4715-BAB1-29B21265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7DB-C089-4099-8E1E-07E62A88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201-40E1-4E23-A6E6-135277DF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6E1-F828-47BE-B1E1-5E31833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47F-6842-450A-A68E-672B7B0C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DD6-DE11-449E-AF96-2E034E7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A52-6CD6-4B0C-83C4-EE08611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CE4-45D6-4A10-A4FD-4B62F65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F95-89DE-4D10-A3CC-BDC9EB32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1DF-D77B-41B2-A103-66F69F6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667-7AA7-483F-A725-485BE25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76EB6-EEEB-4E62-8E2D-F2ADC3FC1E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