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84526"/>
        <c:axId val="80293173"/>
      </c:barChart>
      <c:catAx>
        <c:axId val="20084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93173"/>
        <c:crosses val="autoZero"/>
        <c:auto val="1"/>
        <c:lblAlgn val="ctr"/>
        <c:lblOffset val="100"/>
        <c:noMultiLvlLbl val="0"/>
      </c:catAx>
      <c:valAx>
        <c:axId val="80293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4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453-249F-42AC-BB27-EB15FBC3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CFA-5B10-4100-B4FA-89F4C3AB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D44-6723-476D-B69B-746560D6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0D7-2B91-46EB-B976-4D367A76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83E-4AB3-4FD4-B071-EC83CC98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247-CA6D-448E-9AA5-929CB32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B05-B20D-4769-880D-55C7191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F71-ADA7-4486-9148-17511AA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D13-2258-4746-ADEE-E86C4FAA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128-43CC-4F1F-BA3D-1CBFCA2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F2A-6ADA-46AA-8C4D-05E74B6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37E-C0B6-427B-B110-30F7219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A7853-6144-4A2C-968E-A2561826A6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