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397237"/>
        <c:axId val="97679068"/>
      </c:barChart>
      <c:catAx>
        <c:axId val="563972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79068"/>
        <c:crosses val="autoZero"/>
        <c:auto val="1"/>
        <c:lblAlgn val="ctr"/>
        <c:lblOffset val="100"/>
        <c:noMultiLvlLbl val="0"/>
      </c:catAx>
      <c:valAx>
        <c:axId val="976790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972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375B-3CB5-4C8F-B353-CBDC75449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542C-A47F-4680-A8D1-75EB6F63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9582-448D-4322-AAAA-9E5E9D61A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58D4-D8A4-468D-BB7C-3AD047176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234A-A2D9-4D29-8605-22025B02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E1B5-CDC6-44A8-92A8-826C56E2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B1AE-8A2F-4826-98B4-D295EDE0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2599-508A-47D1-A0F9-D9CB951A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B412-40AC-41F7-9DF3-8F0E592F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F30E-47B2-45FC-B2BF-2F289C04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BEF5-C368-4A2B-A859-347987C1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09E1-5858-43C6-8A46-1BD90F39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A9AD3-68AD-485A-AA86-A326676DCB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