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211336"/>
        <c:axId val="34934193"/>
      </c:barChart>
      <c:catAx>
        <c:axId val="472113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934193"/>
        <c:crosses val="autoZero"/>
        <c:auto val="1"/>
        <c:lblAlgn val="ctr"/>
        <c:lblOffset val="100"/>
        <c:noMultiLvlLbl val="0"/>
      </c:catAx>
      <c:valAx>
        <c:axId val="349341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2113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41E4-F7C8-4C29-A459-DE6685AE1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DAD1-56A7-4D38-97B9-60B1F109D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E953-FF28-4C38-A17E-60BE0EA4E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451E-59A8-4319-9BB5-B5CB17272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6ECE-B5C6-413D-B7AF-B2A432FA3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6EF4-A59C-4D83-A997-7F0D36C8C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DEF8-C7B3-49AA-B4B5-AA38AF95A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A084-7E41-42E8-8B18-91D3AE589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A182-510A-4A74-9E70-CE8AF5B2E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B976-BAC9-466E-AE43-5F6AE494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C169-C204-4410-8C73-BE73596CA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E48C-2233-4ADA-BE40-6D64F351C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2DC068-F4D8-4EAE-9DF7-2C57363F5CB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