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82453"/>
        <c:axId val="76851393"/>
      </c:barChart>
      <c:catAx>
        <c:axId val="84382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51393"/>
        <c:crosses val="autoZero"/>
        <c:auto val="1"/>
        <c:lblAlgn val="ctr"/>
        <c:lblOffset val="100"/>
        <c:noMultiLvlLbl val="0"/>
      </c:catAx>
      <c:valAx>
        <c:axId val="76851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82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8F5-9C0F-4524-A3BC-28FE46C9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6A0-AB2D-4CA5-AA2A-7343BAA9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7C7-8266-45C8-9815-475D4866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B18-2AC3-4C7D-9246-2C4D393F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5E0-F356-4847-9E98-3EC4E1B3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C09-B0D4-40B2-A483-7770D1E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55C-5F8A-4839-BE85-A49D372E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6E0-5170-4AD6-B9CC-9C30C5E3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F82-D6C9-4335-96DD-D52393E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6E2-CC43-4E1B-9A81-C887F4F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80E-B80A-4FB6-9162-D196FE68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C6D-DA3E-45CF-8C16-B657890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97BA1-C69E-4B68-9CDD-A33EE2E305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