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30524"/>
        <c:axId val="70967185"/>
      </c:barChart>
      <c:catAx>
        <c:axId val="96130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67185"/>
        <c:crosses val="autoZero"/>
        <c:auto val="1"/>
        <c:lblAlgn val="ctr"/>
        <c:lblOffset val="100"/>
        <c:noMultiLvlLbl val="0"/>
      </c:catAx>
      <c:valAx>
        <c:axId val="70967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0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929-77AC-4AF2-8D17-C5296B1A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220-9D00-4725-9BC2-2747837F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F6F-A915-4765-A24E-2377DCBF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91A-7935-44A4-9CC7-1211A359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3FC-33D6-45C4-91D2-DC75E88A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9AC-6C5C-45D7-AA2F-20A17D6F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C5B-66D6-45DE-95B8-5BBF72DA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627-8673-4F80-90E9-766B7931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67B-92A9-43AC-9CC0-A3A7AF89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F94-C5C5-4B89-A640-E86CB7B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FC5-5D37-4DF3-87F2-644F9D6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AAE-6132-4911-BF2A-44156BB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19A4-FA2E-4E2F-A781-D2C029D519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