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96383"/>
        <c:axId val="71434006"/>
      </c:barChart>
      <c:catAx>
        <c:axId val="22496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34006"/>
        <c:crosses val="autoZero"/>
        <c:auto val="1"/>
        <c:lblAlgn val="ctr"/>
        <c:lblOffset val="100"/>
        <c:noMultiLvlLbl val="0"/>
      </c:catAx>
      <c:valAx>
        <c:axId val="71434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96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42B-A5FB-427D-817A-00D1E328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140-8DF4-4070-A96A-B4C36CA9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558-8937-4FBF-959B-FEC93FE3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5FB-244E-40FE-94A9-E729C1A6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76C-BFF7-4855-98A9-B26333AE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C6E-C770-4829-AEAC-8E357A5A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8D1-8D2B-41D4-8F71-B2A55A2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DF0-C0AE-4DB8-9A51-C81BDECE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D55-5826-49D6-9738-35809A74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483-DB1D-4CFF-AC35-ADD528C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EC7-D948-4C76-9F4C-C88EDD0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2B4-2B11-4E96-A89E-BDC8D0E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0AF37-7BE0-4E2D-B549-7274F1997F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